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4425-BBE3-4461-94FC-49B7DC8D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A28-46DF-4176-8CF8-46D1C16A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817B-FB19-40A9-9AB8-69A82CC3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35D-9F2B-4442-B4A4-76DB8C66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C3C-7122-4989-9BA7-40872F3E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997-6BA3-40CA-9A6A-DBB91FD8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92A-F5C8-4B00-9A26-9E140D33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7DB-8103-417C-A224-28F4FF4F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820-89E7-40F3-87B8-1FEC7065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143-4740-464D-B11A-0D4ACC33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7CE-83F7-44AD-8F72-D456798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B94-48E5-418F-BE5E-0960D48E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681-2C2D-44E3-A640-BD5F56652C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7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09T03:39:48Z</dcterms:modified>
  <cp:revision>24</cp:revision>
  <dc:subject/>
  <dc:title>幻灯片 1</dc:title>
</cp:coreProperties>
</file>